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E53F-265D-4769-914A-15E09B6C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C64B-4AE4-4D09-BB7E-80B8ED8F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CF12-42CB-49B4-9B19-A734E63B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7F0B-B0E1-4B2B-85C2-D72EA12C9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7311-977E-4358-9477-041DF16F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AA24-A556-440C-9572-1E46EFCD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81AA-C342-493B-8B8A-1EC6AF2C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DF31-43FE-4EB2-A41F-E33FF385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567B-588A-44AB-AAF8-04F0DAE5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ED33-11F1-436C-9BB7-D4F1FB98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8F46-E9A5-4C61-913C-22ACE8F2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BA37-C2A5-4627-8D32-6410EC01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854C-85FD-4E5F-B9F1-3A6F669C7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8320" y="2263680"/>
            <a:ext cx="7631280" cy="2232000"/>
          </a:xfrm>
          <a:custGeom>
            <a:avLst/>
            <a:gdLst/>
            <a:ahLst/>
            <a:rect l="l" t="t" r="r" b="b"/>
            <a:pathLst>
              <a:path w="4807" h="1406">
                <a:moveTo>
                  <a:pt x="0" y="167"/>
                </a:moveTo>
                <a:cubicBezTo>
                  <a:pt x="139" y="141"/>
                  <a:pt x="630" y="0"/>
                  <a:pt x="823" y="14"/>
                </a:cubicBezTo>
                <a:cubicBezTo>
                  <a:pt x="1016" y="28"/>
                  <a:pt x="1023" y="198"/>
                  <a:pt x="1159" y="254"/>
                </a:cubicBezTo>
                <a:cubicBezTo>
                  <a:pt x="1295" y="310"/>
                  <a:pt x="1479" y="294"/>
                  <a:pt x="1639" y="350"/>
                </a:cubicBezTo>
                <a:cubicBezTo>
                  <a:pt x="1799" y="406"/>
                  <a:pt x="1999" y="486"/>
                  <a:pt x="2119" y="590"/>
                </a:cubicBezTo>
                <a:cubicBezTo>
                  <a:pt x="2239" y="694"/>
                  <a:pt x="2231" y="886"/>
                  <a:pt x="2359" y="974"/>
                </a:cubicBezTo>
                <a:cubicBezTo>
                  <a:pt x="2487" y="1062"/>
                  <a:pt x="2679" y="1094"/>
                  <a:pt x="2887" y="1118"/>
                </a:cubicBezTo>
                <a:cubicBezTo>
                  <a:pt x="3095" y="1142"/>
                  <a:pt x="3391" y="1078"/>
                  <a:pt x="3607" y="1118"/>
                </a:cubicBezTo>
                <a:cubicBezTo>
                  <a:pt x="3823" y="1158"/>
                  <a:pt x="4039" y="1350"/>
                  <a:pt x="4183" y="1358"/>
                </a:cubicBezTo>
                <a:cubicBezTo>
                  <a:pt x="4327" y="1366"/>
                  <a:pt x="4367" y="1158"/>
                  <a:pt x="4471" y="1166"/>
                </a:cubicBezTo>
                <a:cubicBezTo>
                  <a:pt x="4575" y="1174"/>
                  <a:pt x="4743" y="1366"/>
                  <a:pt x="4807" y="1406"/>
                </a:cubicBezTo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7440"/>
            <a:ext cx="8097840" cy="1522440"/>
          </a:xfrm>
          <a:custGeom>
            <a:avLst/>
            <a:gdLst/>
            <a:ahLst/>
            <a:rect l="l" t="t" r="r" b="b"/>
            <a:pathLst>
              <a:path w="5101" h="959">
                <a:moveTo>
                  <a:pt x="0" y="0"/>
                </a:moveTo>
                <a:lnTo>
                  <a:pt x="5101" y="95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286000"/>
            <a:ext cx="3363840" cy="631800"/>
          </a:xfrm>
          <a:custGeom>
            <a:avLst/>
            <a:gdLst/>
            <a:ahLst/>
            <a:rect l="l" t="t" r="r" b="b"/>
            <a:pathLst>
              <a:path w="5101" h="959">
                <a:moveTo>
                  <a:pt x="0" y="0"/>
                </a:moveTo>
                <a:lnTo>
                  <a:pt x="5101" y="95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2895480"/>
            <a:ext cx="0" cy="484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86200" y="3352680"/>
            <a:ext cx="1316160" cy="247680"/>
          </a:xfrm>
          <a:custGeom>
            <a:avLst/>
            <a:gdLst/>
            <a:ahLst/>
            <a:rect l="l" t="t" r="r" b="b"/>
            <a:pathLst>
              <a:path w="5101" h="959">
                <a:moveTo>
                  <a:pt x="0" y="0"/>
                </a:moveTo>
                <a:lnTo>
                  <a:pt x="5101" y="95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81480" y="3581280"/>
            <a:ext cx="0" cy="393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81480" y="3959280"/>
            <a:ext cx="3254400" cy="612720"/>
          </a:xfrm>
          <a:custGeom>
            <a:avLst/>
            <a:gdLst/>
            <a:ahLst/>
            <a:rect l="l" t="t" r="r" b="b"/>
            <a:pathLst>
              <a:path w="5101" h="959">
                <a:moveTo>
                  <a:pt x="0" y="0"/>
                </a:moveTo>
                <a:lnTo>
                  <a:pt x="5101" y="95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286000"/>
            <a:ext cx="8097840" cy="1522440"/>
          </a:xfrm>
          <a:custGeom>
            <a:avLst/>
            <a:gdLst/>
            <a:ahLst/>
            <a:rect l="l" t="t" r="r" b="b"/>
            <a:pathLst>
              <a:path w="5101" h="959">
                <a:moveTo>
                  <a:pt x="0" y="0"/>
                </a:moveTo>
                <a:lnTo>
                  <a:pt x="5101" y="959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76320"/>
            <a:ext cx="824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6699"/>
                </a:solidFill>
                <a:latin typeface="Arial"/>
                <a:cs typeface="Zar"/>
              </a:rPr>
              <a:t>سيستم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  <a:ea typeface="Zar"/>
              </a:rPr>
              <a:t>‎</a:t>
            </a:r>
            <a:r>
              <a:rPr b="1" lang="fa-IR" sz="2800" spc="-1" strike="noStrike">
                <a:solidFill>
                  <a:srgbClr val="006699"/>
                </a:solidFill>
                <a:latin typeface="Arial"/>
                <a:cs typeface="Zar"/>
              </a:rPr>
              <a:t>هاي</a:t>
            </a:r>
            <a:r>
              <a:rPr b="1" lang="fa-IR" sz="2800" spc="-1" strike="noStrike">
                <a:solidFill>
                  <a:srgbClr val="006699"/>
                </a:solidFill>
                <a:latin typeface="Times New Roman"/>
                <a:ea typeface="Zar"/>
              </a:rPr>
              <a:t> انتقال آب</a:t>
            </a:r>
            <a:br>
              <a:rPr sz="2800"/>
            </a:br>
            <a:r>
              <a:rPr b="1" lang="fa-IR" sz="2800" spc="-1" strike="noStrike">
                <a:solidFill>
                  <a:srgbClr val="006699"/>
                </a:solidFill>
                <a:latin typeface="Times New Roman"/>
                <a:cs typeface="Zar"/>
              </a:rPr>
              <a:t>فصل چهارم، </a:t>
            </a:r>
            <a:r>
              <a:rPr b="1" lang="fa-IR" sz="2800" spc="-1" strike="noStrike">
                <a:solidFill>
                  <a:srgbClr val="006699"/>
                </a:solidFill>
                <a:latin typeface="Arial"/>
                <a:cs typeface="Zar"/>
              </a:rPr>
              <a:t>شيب</a:t>
            </a:r>
            <a:r>
              <a:rPr b="1" lang="fa-IR" sz="2800" spc="-1" strike="noStrike">
                <a:solidFill>
                  <a:srgbClr val="006699"/>
                </a:solidFill>
                <a:latin typeface="Arial"/>
              </a:rPr>
              <a:t>‌</a:t>
            </a:r>
            <a:r>
              <a:rPr b="1" lang="fa-IR" sz="2800" spc="-1" strike="noStrike">
                <a:solidFill>
                  <a:srgbClr val="006699"/>
                </a:solidFill>
                <a:latin typeface="Arial"/>
                <a:cs typeface="Zar"/>
              </a:rPr>
              <a:t>شكن، تنداب و حوضچه</a:t>
            </a:r>
            <a:r>
              <a:rPr b="1" lang="fa-IR" sz="2800" spc="-1" strike="noStrike">
                <a:solidFill>
                  <a:srgbClr val="006699"/>
                </a:solidFill>
                <a:latin typeface="Arial"/>
              </a:rPr>
              <a:t>‌</a:t>
            </a:r>
            <a:r>
              <a:rPr b="1" lang="fa-IR" sz="2800" spc="-1" strike="noStrike">
                <a:solidFill>
                  <a:srgbClr val="006699"/>
                </a:solidFill>
                <a:latin typeface="Arial"/>
                <a:cs typeface="Zar"/>
              </a:rPr>
              <a:t>ي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  <a:ea typeface="Zar"/>
              </a:rPr>
              <a:t> </a:t>
            </a:r>
            <a:r>
              <a:rPr b="1" lang="fa-IR" sz="2800" spc="-1" strike="noStrike">
                <a:solidFill>
                  <a:srgbClr val="006699"/>
                </a:solidFill>
                <a:latin typeface="Arial"/>
                <a:cs typeface="Zar"/>
              </a:rPr>
              <a:t>آرام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447560" y="2286000"/>
            <a:ext cx="729720" cy="291960"/>
            <a:chOff x="1447560" y="2286000"/>
            <a:chExt cx="729720" cy="291960"/>
          </a:xfrm>
        </p:grpSpPr>
        <p:sp>
          <p:nvSpPr>
            <p:cNvPr id="51" name=""/>
            <p:cNvSpPr/>
            <p:nvPr/>
          </p:nvSpPr>
          <p:spPr>
            <a:xfrm flipH="1">
              <a:off x="1447560" y="2317680"/>
              <a:ext cx="152280" cy="1526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581120" y="2305080"/>
              <a:ext cx="182160" cy="182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2025000" y="2425680"/>
              <a:ext cx="152280" cy="1522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1904760" y="2362320"/>
              <a:ext cx="182160" cy="182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752480" y="2286000"/>
              <a:ext cx="228240" cy="2286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809520" y="2946240"/>
            <a:ext cx="4584960" cy="1409760"/>
            <a:chOff x="3809520" y="2946240"/>
            <a:chExt cx="4584960" cy="1409760"/>
          </a:xfrm>
        </p:grpSpPr>
        <p:sp>
          <p:nvSpPr>
            <p:cNvPr id="57" name=""/>
            <p:cNvSpPr/>
            <p:nvPr/>
          </p:nvSpPr>
          <p:spPr>
            <a:xfrm flipH="1">
              <a:off x="4533120" y="3193920"/>
              <a:ext cx="731880" cy="73188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4279320" y="3130200"/>
              <a:ext cx="639720" cy="6397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4823640" y="3257280"/>
              <a:ext cx="731880" cy="73188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5123880" y="3308040"/>
              <a:ext cx="731880" cy="73188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5479560" y="3358800"/>
              <a:ext cx="685800" cy="685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860440" y="3435120"/>
              <a:ext cx="593640" cy="5936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6241680" y="3473280"/>
              <a:ext cx="547920" cy="54756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6527160" y="3560400"/>
              <a:ext cx="547560" cy="547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6793920" y="3619440"/>
              <a:ext cx="593640" cy="5936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7041600" y="3670200"/>
              <a:ext cx="685800" cy="685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7682760" y="3746160"/>
              <a:ext cx="374760" cy="37476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7937280" y="3803400"/>
              <a:ext cx="457200" cy="4572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4133160" y="3060360"/>
              <a:ext cx="430200" cy="4302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3980880" y="2984400"/>
              <a:ext cx="228600" cy="2286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809520" y="2946240"/>
              <a:ext cx="136440" cy="136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556080" y="2889360"/>
            <a:ext cx="3704760" cy="1539720"/>
            <a:chOff x="3556080" y="2889360"/>
            <a:chExt cx="3704760" cy="1539720"/>
          </a:xfrm>
        </p:grpSpPr>
        <p:sp>
          <p:nvSpPr>
            <p:cNvPr id="73" name=""/>
            <p:cNvSpPr/>
            <p:nvPr/>
          </p:nvSpPr>
          <p:spPr>
            <a:xfrm flipH="1">
              <a:off x="7188120" y="4356000"/>
              <a:ext cx="72720" cy="7308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4933440" y="3753000"/>
              <a:ext cx="245880" cy="24588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4647960" y="3581280"/>
              <a:ext cx="365040" cy="3654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4406760" y="3521160"/>
              <a:ext cx="320400" cy="32076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7086240" y="4343400"/>
              <a:ext cx="45720" cy="4608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4203360" y="3448080"/>
              <a:ext cx="218520" cy="21888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3556080" y="2889360"/>
              <a:ext cx="63360" cy="6336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714480" y="2940120"/>
              <a:ext cx="109440" cy="109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981080" y="1828800"/>
            <a:ext cx="730440" cy="291960"/>
            <a:chOff x="1981080" y="1828800"/>
            <a:chExt cx="730440" cy="291960"/>
          </a:xfrm>
        </p:grpSpPr>
        <p:sp>
          <p:nvSpPr>
            <p:cNvPr id="82" name=""/>
            <p:cNvSpPr/>
            <p:nvPr/>
          </p:nvSpPr>
          <p:spPr>
            <a:xfrm flipH="1">
              <a:off x="1981080" y="1860480"/>
              <a:ext cx="152640" cy="152640"/>
            </a:xfrm>
            <a:prstGeom prst="line">
              <a:avLst/>
            </a:prstGeom>
            <a:ln w="1908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2114280" y="1847880"/>
              <a:ext cx="182520" cy="182520"/>
            </a:xfrm>
            <a:prstGeom prst="line">
              <a:avLst/>
            </a:prstGeom>
            <a:ln w="1908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58880" y="1968480"/>
              <a:ext cx="152640" cy="152280"/>
            </a:xfrm>
            <a:prstGeom prst="line">
              <a:avLst/>
            </a:prstGeom>
            <a:ln w="1908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2437920" y="1905120"/>
              <a:ext cx="182520" cy="182520"/>
            </a:xfrm>
            <a:prstGeom prst="line">
              <a:avLst/>
            </a:prstGeom>
            <a:ln w="1908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2285640" y="1828800"/>
              <a:ext cx="228600" cy="228600"/>
            </a:xfrm>
            <a:prstGeom prst="line">
              <a:avLst/>
            </a:prstGeom>
            <a:ln w="1908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343040" y="1981080"/>
            <a:ext cx="4584960" cy="1409760"/>
            <a:chOff x="4343040" y="1981080"/>
            <a:chExt cx="4584960" cy="1409760"/>
          </a:xfrm>
        </p:grpSpPr>
        <p:sp>
          <p:nvSpPr>
            <p:cNvPr id="88" name=""/>
            <p:cNvSpPr/>
            <p:nvPr/>
          </p:nvSpPr>
          <p:spPr>
            <a:xfrm flipH="1">
              <a:off x="5066640" y="2228760"/>
              <a:ext cx="731880" cy="731880"/>
            </a:xfrm>
            <a:prstGeom prst="line">
              <a:avLst/>
            </a:prstGeom>
            <a:ln w="1908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4812840" y="2165040"/>
              <a:ext cx="639720" cy="639720"/>
            </a:xfrm>
            <a:prstGeom prst="line">
              <a:avLst/>
            </a:prstGeom>
            <a:ln w="1908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357160" y="2292120"/>
              <a:ext cx="731880" cy="731880"/>
            </a:xfrm>
            <a:prstGeom prst="line">
              <a:avLst/>
            </a:prstGeom>
            <a:ln w="1908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657400" y="2342880"/>
              <a:ext cx="731880" cy="731880"/>
            </a:xfrm>
            <a:prstGeom prst="line">
              <a:avLst/>
            </a:prstGeom>
            <a:ln w="1908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6013080" y="2393640"/>
              <a:ext cx="685800" cy="685800"/>
            </a:xfrm>
            <a:prstGeom prst="line">
              <a:avLst/>
            </a:prstGeom>
            <a:ln w="1908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6393960" y="2469960"/>
              <a:ext cx="593640" cy="593640"/>
            </a:xfrm>
            <a:prstGeom prst="line">
              <a:avLst/>
            </a:prstGeom>
            <a:ln w="1908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775200" y="2508120"/>
              <a:ext cx="547920" cy="547560"/>
            </a:xfrm>
            <a:prstGeom prst="line">
              <a:avLst/>
            </a:prstGeom>
            <a:ln w="1908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7060680" y="2595240"/>
              <a:ext cx="547560" cy="547920"/>
            </a:xfrm>
            <a:prstGeom prst="line">
              <a:avLst/>
            </a:prstGeom>
            <a:ln w="1908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7327440" y="2654280"/>
              <a:ext cx="593640" cy="593640"/>
            </a:xfrm>
            <a:prstGeom prst="line">
              <a:avLst/>
            </a:prstGeom>
            <a:ln w="1908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7575120" y="2705040"/>
              <a:ext cx="685800" cy="685800"/>
            </a:xfrm>
            <a:prstGeom prst="line">
              <a:avLst/>
            </a:prstGeom>
            <a:ln w="1908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8216280" y="2781000"/>
              <a:ext cx="374760" cy="374760"/>
            </a:xfrm>
            <a:prstGeom prst="line">
              <a:avLst/>
            </a:prstGeom>
            <a:ln w="1908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8470800" y="2838240"/>
              <a:ext cx="457200" cy="457200"/>
            </a:xfrm>
            <a:prstGeom prst="line">
              <a:avLst/>
            </a:prstGeom>
            <a:ln w="1908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4666680" y="2095200"/>
              <a:ext cx="430200" cy="430200"/>
            </a:xfrm>
            <a:prstGeom prst="line">
              <a:avLst/>
            </a:prstGeom>
            <a:ln w="1908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4514400" y="2019240"/>
              <a:ext cx="228600" cy="228600"/>
            </a:xfrm>
            <a:prstGeom prst="line">
              <a:avLst/>
            </a:prstGeom>
            <a:ln w="1908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4343040" y="1981080"/>
              <a:ext cx="136440" cy="136440"/>
            </a:xfrm>
            <a:prstGeom prst="line">
              <a:avLst/>
            </a:prstGeom>
            <a:ln w="1908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447560" y="2286000"/>
            <a:ext cx="6619320" cy="2193840"/>
            <a:chOff x="1447560" y="2286000"/>
            <a:chExt cx="6619320" cy="2193840"/>
          </a:xfrm>
        </p:grpSpPr>
        <p:sp>
          <p:nvSpPr>
            <p:cNvPr id="104" name=""/>
            <p:cNvSpPr/>
            <p:nvPr/>
          </p:nvSpPr>
          <p:spPr>
            <a:xfrm flipH="1">
              <a:off x="3898440" y="3213000"/>
              <a:ext cx="63000" cy="63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942720" y="3276720"/>
              <a:ext cx="91800" cy="9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006600" y="4025880"/>
              <a:ext cx="91800" cy="92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172200" y="4044960"/>
              <a:ext cx="91440" cy="92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317640" y="4076640"/>
              <a:ext cx="91800" cy="92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6438960" y="4114800"/>
              <a:ext cx="82080" cy="82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7975080" y="4387680"/>
              <a:ext cx="91800" cy="92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7765920" y="4254480"/>
              <a:ext cx="182160" cy="182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7556400" y="4152960"/>
              <a:ext cx="245520" cy="245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1447560" y="2286000"/>
              <a:ext cx="729720" cy="291960"/>
              <a:chOff x="1447560" y="2286000"/>
              <a:chExt cx="729720" cy="291960"/>
            </a:xfrm>
          </p:grpSpPr>
          <p:sp>
            <p:nvSpPr>
              <p:cNvPr id="114" name=""/>
              <p:cNvSpPr/>
              <p:nvPr/>
            </p:nvSpPr>
            <p:spPr>
              <a:xfrm flipH="1">
                <a:off x="1447560" y="2317680"/>
                <a:ext cx="152280" cy="152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1581120" y="2305080"/>
                <a:ext cx="182160" cy="1825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2025000" y="2425680"/>
                <a:ext cx="152280" cy="152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1904760" y="2362320"/>
                <a:ext cx="182160" cy="1825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1752480" y="2286000"/>
                <a:ext cx="228240" cy="228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"/>
          <p:cNvSpPr/>
          <p:nvPr/>
        </p:nvSpPr>
        <p:spPr>
          <a:xfrm>
            <a:off x="3886200" y="3838680"/>
            <a:ext cx="1208160" cy="390600"/>
          </a:xfrm>
          <a:custGeom>
            <a:avLst/>
            <a:gdLst/>
            <a:ahLst/>
            <a:rect l="l" t="t" r="r" b="b"/>
            <a:pathLst>
              <a:path w="761" h="246">
                <a:moveTo>
                  <a:pt x="0" y="246"/>
                </a:moveTo>
                <a:cubicBezTo>
                  <a:pt x="78" y="237"/>
                  <a:pt x="354" y="233"/>
                  <a:pt x="481" y="192"/>
                </a:cubicBezTo>
                <a:cubicBezTo>
                  <a:pt x="608" y="151"/>
                  <a:pt x="714" y="32"/>
                  <a:pt x="76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819520" y="3157560"/>
            <a:ext cx="1143000" cy="1447560"/>
            <a:chOff x="2819520" y="3157560"/>
            <a:chExt cx="1143000" cy="1447560"/>
          </a:xfrm>
        </p:grpSpPr>
        <p:sp>
          <p:nvSpPr>
            <p:cNvPr id="121" name=""/>
            <p:cNvSpPr/>
            <p:nvPr/>
          </p:nvSpPr>
          <p:spPr>
            <a:xfrm>
              <a:off x="3235680" y="3157560"/>
              <a:ext cx="631800" cy="757080"/>
            </a:xfrm>
            <a:custGeom>
              <a:avLst/>
              <a:gdLst/>
              <a:ahLst/>
              <a:rect l="l" t="t" r="r" b="b"/>
              <a:pathLst>
                <a:path w="398" h="477">
                  <a:moveTo>
                    <a:pt x="26" y="477"/>
                  </a:moveTo>
                  <a:cubicBezTo>
                    <a:pt x="33" y="410"/>
                    <a:pt x="0" y="150"/>
                    <a:pt x="62" y="75"/>
                  </a:cubicBezTo>
                  <a:cubicBezTo>
                    <a:pt x="124" y="0"/>
                    <a:pt x="342" y="35"/>
                    <a:pt x="398" y="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19520" y="396252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800" spc="-1" strike="noStrike">
                  <a:solidFill>
                    <a:srgbClr val="000000"/>
                  </a:solidFill>
                  <a:latin typeface="Arial"/>
                  <a:cs typeface="Zar"/>
                </a:rPr>
                <a:t>شيب شک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971800" y="50292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شكل </a:t>
            </a:r>
            <a:r>
              <a:rPr b="1" lang="fa-IR" sz="1800" spc="-1" strike="noStrike">
                <a:solidFill>
                  <a:srgbClr val="000000"/>
                </a:solidFill>
                <a:latin typeface="IPT.Zar"/>
                <a:ea typeface="IPT.Zar"/>
              </a:rPr>
              <a:t></a:t>
            </a:r>
            <a:r>
              <a:rPr b="1" lang="en-US" sz="1800" spc="-1" strike="noStrike">
                <a:solidFill>
                  <a:srgbClr val="000000"/>
                </a:solidFill>
                <a:latin typeface="IPT.Zar"/>
                <a:ea typeface="IPT.Zar"/>
              </a:rPr>
              <a:t></a:t>
            </a:r>
            <a:r>
              <a:rPr b="1" lang="fa-IR" sz="1800" spc="-1" strike="noStrike">
                <a:solidFill>
                  <a:srgbClr val="000000"/>
                </a:solidFill>
                <a:latin typeface="IPT.Zar"/>
                <a:ea typeface="IPT.Zar"/>
              </a:rPr>
              <a:t></a:t>
            </a:r>
            <a:r>
              <a:rPr b="1" lang="en-US" sz="1800" spc="-1" strike="noStrike">
                <a:solidFill>
                  <a:srgbClr val="000000"/>
                </a:solidFill>
                <a:latin typeface="IPT.Zar"/>
                <a:ea typeface="IPT.Zar"/>
              </a:rPr>
              <a:t></a:t>
            </a:r>
            <a:r>
              <a:rPr b="1" lang="fa-IR" sz="1800" spc="-1" strike="noStrike">
                <a:solidFill>
                  <a:srgbClr val="000000"/>
                </a:solidFill>
                <a:latin typeface="Arial"/>
                <a:ea typeface="Zar"/>
              </a:rPr>
              <a:t>):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Zar"/>
              </a:rPr>
              <a:t> شيب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‌</a:t>
            </a:r>
            <a:r>
              <a:rPr b="0" lang="fa-IR" sz="1800" spc="-1" strike="noStrike">
                <a:solidFill>
                  <a:srgbClr val="000000"/>
                </a:solidFill>
                <a:latin typeface="Arial"/>
                <a:cs typeface="Zar"/>
              </a:rPr>
              <a:t>شكن در كانال با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4:29:53Z</dcterms:created>
  <dc:creator>Chamani</dc:creator>
  <dc:description/>
  <dc:language>en-US</dc:language>
  <cp:lastModifiedBy>civildrchamani</cp:lastModifiedBy>
  <dcterms:modified xsi:type="dcterms:W3CDTF">2010-11-14T23:34:24Z</dcterms:modified>
  <cp:revision>5</cp:revision>
  <dc:subject/>
  <dc:title>Slide 1</dc:title>
</cp:coreProperties>
</file>