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335-7C55-4C6E-9FC5-225531AA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EE8-39C9-48F5-928B-00DEB58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01B-59EF-4B72-B39D-73D1F21C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076-C4E6-4978-923D-31960749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7FA-DED8-4292-8B7F-A956576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CF6-67A6-449F-9D9B-CCC4376C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94F-62A8-4E69-B10F-D2E8177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26A-D093-499F-83F2-53671FE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59F-A44C-430F-ACC2-ADE0D01E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D9D-FB6A-48BE-9C7D-0AF665C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D13-D66F-4112-8106-231CE8A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CA4-A35B-4C59-8E45-77C5EDE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23E-925B-4A20-9CC1-317ED2331D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2743200"/>
          <a:ext cx="8001000" cy="3959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88272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of Final Mark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&lt;F&lt;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/12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6.5=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&lt;F&lt;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5/12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6.5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&lt;F&lt;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/12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6.5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&lt;F&lt;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/12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.5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&lt;F&lt;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/12=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09480" y="1752480"/>
                <a:ext cx="82296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ifi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ams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e>
                    </m:d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85800" y="838080"/>
                <a:ext cx="6477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a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35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294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zes: 3.74 (58%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xam: 8.94 (7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16754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1720" y="2665800"/>
            <a:ext cx="41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z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7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0.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9600" y="335160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94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.3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.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970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20:46:05Z</dcterms:created>
  <dc:creator>dr-chamani</dc:creator>
  <dc:description/>
  <dc:language>en-US</dc:language>
  <cp:lastModifiedBy>civildrchamani</cp:lastModifiedBy>
  <dcterms:modified xsi:type="dcterms:W3CDTF">2011-01-29T17:46:01Z</dcterms:modified>
  <cp:revision>8</cp:revision>
  <dc:subject/>
  <dc:title>Slide 1</dc:title>
</cp:coreProperties>
</file>