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EA0-8D2B-497B-8FEE-B226947F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8C9-AD32-4BD6-BA38-ABD5D1AC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32D-F06C-4018-BAD0-CBFD159C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3F9-7F23-48CD-9E37-55062CB5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6B0-D92D-442C-AB53-A2D9291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E87-1868-4FE6-B256-74A24104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327-40E0-458F-9A49-A9C5252D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9A0-8E20-46BF-A090-1A2545C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8A6-0677-4613-BB60-49EED41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C50-2C26-4676-AC84-5A9A310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C5A-C530-4D2C-9767-DBF8271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222-3B7E-4856-B16B-EE3BBC4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656-0237-44C8-B7CC-859043BE87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rk.pp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3720" y="125280"/>
            <a:ext cx="82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Fluid Mechanics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1932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  <a:cs typeface="Zar"/>
              </a:rPr>
              <a:t>نام و عنوان درس:</a:t>
            </a:r>
            <a:r>
              <a:rPr b="1" lang="fa-IR" sz="2400" spc="-1" strike="noStrike">
                <a:solidFill>
                  <a:srgbClr val="ff3300"/>
                </a:solidFill>
                <a:latin typeface="Times New Roman"/>
                <a:ea typeface="Z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Zar"/>
              </a:rPr>
              <a:t>مكانيك سي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  <a:cs typeface="Zar"/>
              </a:rPr>
              <a:t>نام مدرس: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Zar"/>
              </a:rPr>
              <a:t>محمدرضا چ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  <a:cs typeface="Zar"/>
              </a:rPr>
              <a:t>تعداد واحد: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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واحد نظ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  <a:cs typeface="Zar"/>
              </a:rPr>
              <a:t>هدف درس؟ ارزش و اهميت درس؟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  <a:cs typeface="Zar"/>
              </a:rPr>
              <a:t>ارزشيابي: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          آزمون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Zar"/>
              </a:rPr>
              <a:t>نمر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Zar"/>
              </a:rPr>
              <a:t>آزمون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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(فصلهاي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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و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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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Zar"/>
              </a:rPr>
              <a:t>آزمون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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(فصل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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Zar"/>
              </a:rPr>
              <a:t>آزمون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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cs typeface="IPT.Zar"/>
              </a:rPr>
              <a:t>،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cs typeface="IPT.Zar"/>
              </a:rPr>
              <a:t>پايان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ea typeface="IPT.Zar"/>
              </a:rPr>
              <a:t>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cs typeface="IPT.Zar"/>
              </a:rPr>
              <a:t>ترم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(تمام فصلها)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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IPT.Zar"/>
                <a:cs typeface="IPT.Zar"/>
              </a:rPr>
              <a:t>تكليفها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ea typeface="IPT.Zar"/>
              </a:rPr>
              <a:t>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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ea typeface="IPT.Zar"/>
              </a:rPr>
              <a:t>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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IPT.Zar"/>
                <a:cs typeface="IPT.Zar"/>
              </a:rPr>
              <a:t>كار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ea typeface="IPT.Zar"/>
              </a:rPr>
              <a:t>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cs typeface="IPT.Zar"/>
              </a:rPr>
              <a:t>گروهي</a:t>
            </a:r>
            <a:r>
              <a:rPr b="1" lang="fa-IR" sz="2400" spc="-1" strike="noStrike">
                <a:solidFill>
                  <a:srgbClr val="000000"/>
                </a:solidFill>
                <a:latin typeface="IPT.Zar"/>
                <a:ea typeface="IPT.Zar"/>
              </a:rPr>
              <a:t>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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tebulb">
            <a:hlinkClick r:id="rId1"/>
          </p:cNvPr>
          <p:cNvSpPr/>
          <p:nvPr/>
        </p:nvSpPr>
        <p:spPr>
          <a:xfrm>
            <a:off x="1752480" y="4800600"/>
            <a:ext cx="411120" cy="487440"/>
          </a:xfrm>
          <a:prstGeom prst="pi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9"/>
          <p:cNvSpPr/>
          <p:nvPr/>
        </p:nvSpPr>
        <p:spPr>
          <a:xfrm>
            <a:off x="3886200" y="2719440"/>
            <a:ext cx="365040" cy="252360"/>
          </a:xfrm>
          <a:custGeom>
            <a:avLst/>
            <a:gdLst>
              <a:gd name="textAreaLeft" fmla="*/ 16200 w 365040"/>
              <a:gd name="textAreaRight" fmla="*/ 348840 w 36504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1231" h="21600">
                <a:moveTo>
                  <a:pt x="0" y="0"/>
                </a:moveTo>
                <a:lnTo>
                  <a:pt x="31231" y="0"/>
                </a:lnTo>
                <a:lnTo>
                  <a:pt x="31231" y="21600"/>
                </a:lnTo>
                <a:lnTo>
                  <a:pt x="0" y="21600"/>
                </a:lnTo>
                <a:close/>
              </a:path>
              <a:path fill="lightenLess" w="31231" h="21600">
                <a:moveTo>
                  <a:pt x="0" y="0"/>
                </a:moveTo>
                <a:lnTo>
                  <a:pt x="31231" y="0"/>
                </a:lnTo>
                <a:lnTo>
                  <a:pt x="29831" y="1400"/>
                </a:lnTo>
                <a:lnTo>
                  <a:pt x="1400" y="1400"/>
                </a:lnTo>
                <a:close/>
              </a:path>
              <a:path fill="darken" w="31231" h="21600">
                <a:moveTo>
                  <a:pt x="31231" y="0"/>
                </a:moveTo>
                <a:lnTo>
                  <a:pt x="31231" y="21600"/>
                </a:lnTo>
                <a:lnTo>
                  <a:pt x="29831" y="20200"/>
                </a:lnTo>
                <a:lnTo>
                  <a:pt x="29831" y="1400"/>
                </a:lnTo>
                <a:close/>
              </a:path>
              <a:path fill="darkenLess" w="31231" h="21600">
                <a:moveTo>
                  <a:pt x="31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1" y="20200"/>
                </a:lnTo>
                <a:close/>
              </a:path>
              <a:path fill="lighten" w="31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1" h="21600">
                <a:moveTo>
                  <a:pt x="8609" y="7301"/>
                </a:moveTo>
                <a:lnTo>
                  <a:pt x="9523" y="7301"/>
                </a:lnTo>
                <a:lnTo>
                  <a:pt x="9906" y="7667"/>
                </a:lnTo>
                <a:lnTo>
                  <a:pt x="19114" y="7667"/>
                </a:lnTo>
                <a:lnTo>
                  <a:pt x="19671" y="8224"/>
                </a:lnTo>
                <a:lnTo>
                  <a:pt x="19671" y="8772"/>
                </a:lnTo>
                <a:lnTo>
                  <a:pt x="21516" y="8772"/>
                </a:lnTo>
                <a:lnTo>
                  <a:pt x="21882" y="8224"/>
                </a:lnTo>
                <a:lnTo>
                  <a:pt x="22622" y="8224"/>
                </a:lnTo>
                <a:lnTo>
                  <a:pt x="22622" y="13376"/>
                </a:lnTo>
                <a:lnTo>
                  <a:pt x="21882" y="13376"/>
                </a:lnTo>
                <a:lnTo>
                  <a:pt x="21516" y="12828"/>
                </a:lnTo>
                <a:lnTo>
                  <a:pt x="19671" y="12828"/>
                </a:lnTo>
                <a:lnTo>
                  <a:pt x="19671" y="14107"/>
                </a:lnTo>
                <a:lnTo>
                  <a:pt x="10089" y="14107"/>
                </a:lnTo>
                <a:lnTo>
                  <a:pt x="10089" y="9877"/>
                </a:lnTo>
                <a:lnTo>
                  <a:pt x="9906" y="9877"/>
                </a:lnTo>
                <a:lnTo>
                  <a:pt x="9523" y="10243"/>
                </a:lnTo>
                <a:lnTo>
                  <a:pt x="860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tebulb"/>
          <p:cNvSpPr/>
          <p:nvPr/>
        </p:nvSpPr>
        <p:spPr>
          <a:xfrm>
            <a:off x="1752480" y="5638680"/>
            <a:ext cx="411120" cy="487440"/>
          </a:xfrm>
          <a:prstGeom prst="pi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3720" y="125280"/>
            <a:ext cx="82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Fluid Mechanics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193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feren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Zar"/>
              </a:rPr>
              <a:t>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مني، م.ر.، دهقاني، ا.ا.، بيرامي، م.ک.، و ق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‌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پور، ر. </a:t>
            </a:r>
            <a:r>
              <a:rPr b="1" lang="ar-SA" sz="2400" spc="-1" strike="noStrike">
                <a:solidFill>
                  <a:srgbClr val="000000"/>
                </a:solidFill>
                <a:latin typeface="IPT.Zar"/>
                <a:ea typeface="IPT.Zar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</a:t>
            </a:r>
            <a:r>
              <a:rPr b="1" lang="ar-SA" sz="2400" spc="-1" strike="noStrike">
                <a:solidFill>
                  <a:srgbClr val="000000"/>
                </a:solidFill>
                <a:latin typeface="IPT.Zar"/>
                <a:ea typeface="IPT.Zar"/>
              </a:rPr>
              <a:t></a:t>
            </a:r>
            <a:r>
              <a:rPr b="1" lang="ar-SA" sz="2400" spc="-1" strike="noStrike">
                <a:solidFill>
                  <a:srgbClr val="000000"/>
                </a:solidFill>
                <a:latin typeface="IPT.Zar"/>
                <a:cs typeface="IPT.Zar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Zar"/>
              </a:rPr>
              <a:t> “مکانيک سيالات“، انتشارات دانشگاه صنعتي اصفهان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Zar"/>
              </a:rPr>
              <a:t> ص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ص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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Z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Zar"/>
              </a:rPr>
              <a:t>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مني، م.ر.، دهقاني، ا.ا.، بيرامي، م.ک.، و ق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‌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پور، ر. </a:t>
            </a:r>
            <a:r>
              <a:rPr b="1" lang="ar-SA" sz="2400" spc="-1" strike="noStrike">
                <a:solidFill>
                  <a:srgbClr val="000000"/>
                </a:solidFill>
                <a:latin typeface="IPT.Zar"/>
                <a:ea typeface="IPT.Zar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</a:t>
            </a:r>
            <a:r>
              <a:rPr b="1" lang="ar-SA" sz="2400" spc="-1" strike="noStrike">
                <a:solidFill>
                  <a:srgbClr val="000000"/>
                </a:solidFill>
                <a:latin typeface="IPT.Zar"/>
                <a:ea typeface="IPT.Zar"/>
              </a:rPr>
              <a:t></a:t>
            </a:r>
            <a:r>
              <a:rPr b="1" lang="ar-SA" sz="2400" spc="-1" strike="noStrike">
                <a:solidFill>
                  <a:srgbClr val="000000"/>
                </a:solidFill>
                <a:latin typeface="IPT.Zar"/>
                <a:cs typeface="IPT.Zar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Zar"/>
              </a:rPr>
              <a:t> “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Zar"/>
              </a:rPr>
              <a:t>مسايل پايه د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مکانيک سيالات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Zar"/>
              </a:rPr>
              <a:t> و هيدروليك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Zar"/>
              </a:rPr>
              <a:t>“، انتشار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Zar"/>
              </a:rPr>
              <a:t>اركان دان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Zar"/>
              </a:rPr>
              <a:t> ص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Zar"/>
              </a:rPr>
              <a:t>ص </a:t>
            </a:r>
            <a:r>
              <a:rPr b="1" lang="en-US" sz="2400" spc="-1" strike="noStrike">
                <a:solidFill>
                  <a:srgbClr val="000000"/>
                </a:solidFill>
                <a:latin typeface="IPT.Zar"/>
                <a:ea typeface="IPT.Zar"/>
              </a:rPr>
              <a:t>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Z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nson, B.R. et al. (2002)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s of Fluid Mechan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John Wiley &amp; Sons,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gel, Y., and Cimbala, J.M. (2005)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Mechanics: Fundamentals and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McGraw-Hill Company, USA, p. 95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eter, V.L., and Wylie, E.B. (1999)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Mechan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McGraw-Hill Company, Japan, p. 7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19324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feren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mes, I.H. (1982)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uid Mechan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McGraw-Hill Company, USA, p. 69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, J., Gasiorek, J.M., and Swaffield, J.A. (1995)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Mechan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Longman Scientific &amp; Technical, Singapore, p. 8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es, R.V., Evett, J.B., and Liu, Cheng (1994)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aum’s Outline of Theory and Problems of Fluid Mechanics and Hydraul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McGraw-Hill Company, USA, p. 3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hes, W.F., and Brighton, J.A. (2000)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aum’s Outline of Fluid Dynam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McGraw-Hill Company, USA, p. 3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 تائبي، ا. و چمني، م.ر.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cs typeface="Zar"/>
              </a:rPr>
              <a:t>شبكه هاي توزيع آب شهر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. مركز نشر دانشگاه صنعتي اصفهان، ويرايش دوم،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چاپ سوم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138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Z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3720" y="125280"/>
            <a:ext cx="82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Fluid Mechanics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066680"/>
            <a:ext cx="81932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urse Cont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(weeks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, Physical Properties of Flu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efinitions (fluids, differences between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uids, liquids and gase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imensions an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Fluid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Stat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at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Equation for Pressure 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static force on a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oyancy, flotation and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variation in a fluid with rigid-body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3720" y="125280"/>
            <a:ext cx="82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Fluid Mechanics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90720"/>
            <a:ext cx="819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urse Cont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(weeks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Dynam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Control volume and system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Continuity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Momentum equation (linear moment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ent-of-moment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Energy equation (Bernoulli equ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and hydraulics grade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al Analysis and Dynamic Similitu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imension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Some common dimensionless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Physical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3720" y="125280"/>
            <a:ext cx="82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Fluid Mechanics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066680"/>
            <a:ext cx="8193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urse Cont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(weeks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ous Flow in Pip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General characteristics of pip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Fully developed lamina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Fully developed turbulent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Pipelines in series and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over Immersed Objec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General external flow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if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3720" y="125280"/>
            <a:ext cx="82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Fluid Mechanics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ourse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7:05:06Z</dcterms:created>
  <dc:creator>dr-chamani</dc:creator>
  <dc:description/>
  <dc:language>en-US</dc:language>
  <cp:lastModifiedBy>civildrchamani</cp:lastModifiedBy>
  <dcterms:modified xsi:type="dcterms:W3CDTF">2011-01-29T23:31:11Z</dcterms:modified>
  <cp:revision>20</cp:revision>
  <dc:subject/>
  <dc:title>Slide 1</dc:title>
</cp:coreProperties>
</file>